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F3B-DC59-4CB9-BE25-C171AD27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747-B982-4779-A6AE-9A6EAC66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13A-9391-442C-B4BE-19EE3E62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A7D-5705-49E5-9B2B-9B71F900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CA54-229A-4FC6-9CF6-F0E8EAD8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FE43-11D3-4885-B3E6-F6557414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7DD7-F2FB-4753-9244-F27F4B29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CA65-7AE1-4036-B573-4C78352D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F576-779F-40C2-8C10-2DE70CC8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C80A-9A5F-4B0C-A8E8-696C8DAD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2C74-5109-47A5-B3AC-D68A9DC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031-1235-49F0-B91B-5C45F6A9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9885-0399-4FCC-87A2-D9C8DD3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336-D365-4C90-866C-A8AA384C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73F6-8B5A-479A-A750-63D939FD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4486-C9D1-476F-96D8-CA04F0AD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2CD9-A0B2-44F4-9013-E8451C6E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8B6-6A47-4C47-A7AC-2FE9E678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209-911C-4DB6-BFB1-687BEA99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D9D-D8FD-4981-AD16-0A5E6232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8C1-F620-44B8-B1C2-0D5E0DAE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974-A330-4FB7-9794-31FD6A2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1AB-E387-4AA2-981B-C6D25EBC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4B5-CEDF-4BBC-9FFC-D9639D77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5797-21FD-4DF3-914C-D30C7206A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4094-E7BD-4E0C-8F5E-B48277326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c110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c110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04920" y="16002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ue Process &amp; Stud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2844720"/>
            <a:ext cx="5842080" cy="2946600"/>
          </a:xfrm>
          <a:prstGeom prst="rect">
            <a:avLst/>
          </a:prstGeom>
          <a:ln w="92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Metal Detectors </a:t>
            </a:r>
            <a:br>
              <a:rPr sz="4400"/>
            </a:b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&amp; Drug Testing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Metal detectors should be used only when there is evidence of student behavior that poses threat to student health and safety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Drug testing by schools has been deemed legal in the Supreme court pending it is part of the school’s district-wide program on drug education and prevention and is in the district’s interest in combating drug abuse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ncreased concern for safety across the nation after 9/11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No Child Left Behind assures schools “plans” are on file regarding maintenance of safe &amp; drug free environments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Homeland Security</a:t>
            </a: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NSCC guidelines for safe schools: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dentify context in which academic learning should take place in school mission statement. </a:t>
            </a:r>
            <a:r>
              <a:rPr b="0" i="1" lang="en-US" sz="2000" spc="-1" strike="noStrike">
                <a:solidFill>
                  <a:srgbClr val="2c1102"/>
                </a:solidFill>
                <a:latin typeface="Arial"/>
              </a:rPr>
              <a:t>(ie:  “to learn in a safe and secure environment free of violence, drugs…”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dentify procedure for dealing with threat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dentify potential disasters in your school. </a:t>
            </a: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(ie:  intruders, assault, weapons, kidnappings, child abuse, accidental death, natural disasters…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ontrol campus acces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dentify roles and responsibilitie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dentify who to call in a crisi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Provide training for all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Establish and emergency communication system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c110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mplement uniform reporting/record-keeping system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1102"/>
                </a:solidFill>
                <a:latin typeface="Arial"/>
              </a:rPr>
              <a:t>NSCC guidelines for safe schools cont.</a:t>
            </a:r>
            <a:endParaRPr b="1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Handling GANG violence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Ensure that school personnel have knowledge of gang identification and management technique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Establish policies and procedures to address gang violence at school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Implement a system to report suspected gang involvement/activity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May need to ban dress related to gang activity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School Uniforms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Involve the community in drafting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Make certain student religious expressions are preserved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Make certain student rights of expression are preserved within reasonable limits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Make financial provisions for economically disadvantaged students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Enforce policies fairly and consistently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Implement as a component of an overall school safety program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Present drafts to legal counsel for review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Review and revise as needed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Zero Tolerance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Do not use solely to rid of disruptive students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Involve community in formation of policies regarding zero tolerance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Recognize that students have constitutional rights while drafting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Do not move too swiftly with an assumption that it will be a “cure-all” for student mis-conduct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Upon expulsion of a student, seek alternative educational opportunities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Consider student history, seriousness of offense, and immediate need to act before punishment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c1102"/>
                </a:solidFill>
                <a:latin typeface="Arial"/>
              </a:rPr>
              <a:t>Follow due process in all manners.</a:t>
            </a:r>
            <a:endParaRPr b="0" lang="en-US" sz="25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Suspensio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Give adequate notice of policies regarding suspension.</a:t>
            </a:r>
            <a:endParaRPr b="0" lang="en-US" sz="21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Compile a record of information. </a:t>
            </a: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(Include: description, time, and place of infraction, witnesses, and previous efforts to remedy behavior)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Provide some type of hearing preceded by notification of such.</a:t>
            </a:r>
            <a:endParaRPr b="0" lang="en-US" sz="21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Provide written or oral notice of charges </a:t>
            </a: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(Include evidence and opportunity to refute charges).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No delay is necessary between notice and hearing.</a:t>
            </a:r>
            <a:endParaRPr b="0" lang="en-US" sz="21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Listen to all sides of the issue during the hearing.  Students should be allowed to present their side without interruption.</a:t>
            </a:r>
            <a:endParaRPr b="0" lang="en-US" sz="21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Provide written notification of the actions from the hearing to the parents/guardians </a:t>
            </a: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(Include:  charges, evidence, number of days of suspension, ISS or OSS, conditions for return to school, statement that suspension can be appealed if desired.)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c1102"/>
                </a:solidFill>
                <a:latin typeface="Arial"/>
              </a:rPr>
              <a:t>Inform parents/guardians by phone immediately.  Follow with written notification promptly.</a:t>
            </a:r>
            <a:endParaRPr b="0" lang="en-US" sz="21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pulsion</a:t>
            </a:r>
            <a:br>
              <a:rPr sz="4400"/>
            </a:br>
            <a:r>
              <a:rPr b="1" lang="en-US" sz="1400" spc="-1" strike="noStrike">
                <a:solidFill>
                  <a:srgbClr val="2c1102"/>
                </a:solidFill>
                <a:latin typeface="Arial"/>
              </a:rPr>
              <a:t>**These steps will meet the standards of due process if implemented correctly.**</a:t>
            </a:r>
            <a:endParaRPr b="1" lang="en-US" sz="1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Inform student(s), parents/guardians based on school policy of infractions that may result in expulsion.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Student is entitled to written notice of the charges and a right to a fair trial. </a:t>
            </a: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Written notice must be furnished well in advance of the actual hearing.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c11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The following procedural steps should be considered </a:t>
            </a: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(at the minimum):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. Written notice of charges, 2. Right to a fair hearing, 3. Right to inspect evidence, 4. Right to present evidence on student’s behalf, 5. Right to legal counsel, 6. Right to call witnesses, 7. Right to cross-examine, 8. Right against self-incrimination, 9.  Right to appeal</a:t>
            </a: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9:01:17Z</dcterms:created>
  <dc:creator>Roni  Dorsey</dc:creator>
  <dc:description/>
  <dc:language>en-US</dc:language>
  <cp:lastModifiedBy>Roni  Dorsey</cp:lastModifiedBy>
  <dcterms:modified xsi:type="dcterms:W3CDTF">2009-07-10T19:58:45Z</dcterms:modified>
  <cp:revision>2</cp:revision>
  <dc:subject/>
  <dc:title>Chapter 4</dc:title>
</cp:coreProperties>
</file>